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58E-59D2-45F7-B5B5-EDB21EA4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581-9B9B-498A-9A2A-1A1B127A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054-E955-421B-B1BF-BE7372AF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386-5C4B-4430-A0E1-F2BDF1D7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32E-91BA-46D5-B89C-9FB28A8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EAA-6157-44C1-9F40-E23DA0BC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F77-E797-48C5-9A5C-30D59E56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6A8-7426-4D4A-879C-2B72D433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E0D-7293-45C0-BA6A-9B69280C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71B-2152-4F48-BEE1-929479DB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121-7D18-40CC-B375-C1769A99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0A2-574E-482B-BD90-216A48E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67F-A8FB-45A4-BD93-3E2574FB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6640" y="668160"/>
            <a:ext cx="2997360" cy="4413600"/>
          </a:xfrm>
          <a:custGeom>
            <a:avLst/>
            <a:gdLst>
              <a:gd name="textAreaLeft" fmla="*/ 146160 w 2997360"/>
              <a:gd name="textAreaRight" fmla="*/ 2851200 w 2997360"/>
              <a:gd name="textAreaTop" fmla="*/ 146160 h 4413600"/>
              <a:gd name="textAreaBottom" fmla="*/ 4267440 h 4413600"/>
            </a:gdLst>
            <a:ahLst/>
            <a:rect l="textAreaLeft" t="textAreaTop" r="textAreaRight" b="textAreaBottom"/>
            <a:pathLst>
              <a:path w="21600" h="31805">
                <a:moveTo>
                  <a:pt x="3600" y="0"/>
                </a:moveTo>
                <a:arcTo wR="3600" hR="3600" stAng="16200000" swAng="-5400000"/>
                <a:lnTo>
                  <a:pt x="0" y="28205"/>
                </a:lnTo>
                <a:arcTo wR="3600" hR="3600" stAng="10800000" swAng="-5400000"/>
                <a:lnTo>
                  <a:pt x="18000" y="318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40120" y="4325760"/>
            <a:ext cx="4680000" cy="253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7320" y="4635360"/>
            <a:ext cx="1536840" cy="2222640"/>
          </a:xfrm>
          <a:custGeom>
            <a:avLst/>
            <a:gdLst>
              <a:gd name="textAreaLeft" fmla="*/ 74880 w 1536840"/>
              <a:gd name="textAreaRight" fmla="*/ 1461960 w 1536840"/>
              <a:gd name="textAreaTop" fmla="*/ 74880 h 2222640"/>
              <a:gd name="textAreaBottom" fmla="*/ 2147760 h 2222640"/>
            </a:gdLst>
            <a:ahLst/>
            <a:rect l="textAreaLeft" t="textAreaTop" r="textAreaRight" b="textAreaBottom"/>
            <a:pathLst>
              <a:path w="21600" h="31237">
                <a:moveTo>
                  <a:pt x="3600" y="0"/>
                </a:moveTo>
                <a:arcTo wR="3600" hR="3600" stAng="16200000" swAng="-5400000"/>
                <a:lnTo>
                  <a:pt x="0" y="27637"/>
                </a:lnTo>
                <a:arcTo wR="3600" hR="3600" stAng="10800000" swAng="-5400000"/>
                <a:lnTo>
                  <a:pt x="18000" y="31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80960"/>
            <a:ext cx="2859120" cy="4500720"/>
          </a:xfrm>
          <a:custGeom>
            <a:avLst/>
            <a:gdLst>
              <a:gd name="textAreaLeft" fmla="*/ 139320 w 2859120"/>
              <a:gd name="textAreaRight" fmla="*/ 2719800 w 2859120"/>
              <a:gd name="textAreaTop" fmla="*/ 139320 h 4500720"/>
              <a:gd name="textAreaBottom" fmla="*/ 4361400 h 4500720"/>
            </a:gdLst>
            <a:ahLst/>
            <a:rect l="textAreaLeft" t="textAreaTop" r="textAreaRight" b="textAreaBottom"/>
            <a:pathLst>
              <a:path w="21600" h="34000">
                <a:moveTo>
                  <a:pt x="3600" y="0"/>
                </a:moveTo>
                <a:arcTo wR="3600" hR="3600" stAng="16200000" swAng="-5400000"/>
                <a:lnTo>
                  <a:pt x="0" y="30400"/>
                </a:lnTo>
                <a:arcTo wR="3600" hR="3600" stAng="10800000" swAng="-5400000"/>
                <a:lnTo>
                  <a:pt x="18000" y="3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987560"/>
            <a:ext cx="1295280" cy="380376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3803760"/>
              <a:gd name="textAreaBottom" fmla="*/ 3740760 h 3803760"/>
            </a:gdLst>
            <a:ahLst/>
            <a:rect l="textAreaLeft" t="textAreaTop" r="textAreaRight" b="textAreaBottom"/>
            <a:pathLst>
              <a:path w="21600" h="63420">
                <a:moveTo>
                  <a:pt x="3600" y="0"/>
                </a:moveTo>
                <a:arcTo wR="3600" hR="3600" stAng="16200000" swAng="-5400000"/>
                <a:lnTo>
                  <a:pt x="0" y="59820"/>
                </a:lnTo>
                <a:arcTo wR="3600" hR="3600" stAng="10800000" swAng="-5400000"/>
                <a:lnTo>
                  <a:pt x="18000" y="634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89960" y="1074600"/>
            <a:ext cx="1404720" cy="3822840"/>
          </a:xfrm>
          <a:custGeom>
            <a:avLst/>
            <a:gdLst>
              <a:gd name="textAreaLeft" fmla="*/ 68400 w 1404720"/>
              <a:gd name="textAreaRight" fmla="*/ 1336320 w 1404720"/>
              <a:gd name="textAreaTop" fmla="*/ 68400 h 3822840"/>
              <a:gd name="textAreaBottom" fmla="*/ 3754440 h 3822840"/>
            </a:gdLst>
            <a:ahLst/>
            <a:rect l="textAreaLeft" t="textAreaTop" r="textAreaRight" b="textAreaBottom"/>
            <a:pathLst>
              <a:path w="21600" h="58773">
                <a:moveTo>
                  <a:pt x="3600" y="0"/>
                </a:moveTo>
                <a:arcTo wR="3600" hR="3600" stAng="16200000" swAng="-5400000"/>
                <a:lnTo>
                  <a:pt x="0" y="55173"/>
                </a:lnTo>
                <a:arcTo wR="3600" hR="3600" stAng="10800000" swAng="-5400000"/>
                <a:lnTo>
                  <a:pt x="18000" y="587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22960" y="944640"/>
            <a:ext cx="1405080" cy="326052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3260520"/>
              <a:gd name="textAreaBottom" fmla="*/ 3192120 h 3260520"/>
            </a:gdLst>
            <a:ahLst/>
            <a:rect l="textAreaLeft" t="textAreaTop" r="textAreaRight" b="textAreaBottom"/>
            <a:pathLst>
              <a:path w="21600" h="50116">
                <a:moveTo>
                  <a:pt x="3600" y="0"/>
                </a:moveTo>
                <a:arcTo wR="3600" hR="3600" stAng="16200000" swAng="-5400000"/>
                <a:lnTo>
                  <a:pt x="0" y="46516"/>
                </a:lnTo>
                <a:arcTo wR="3600" hR="3600" stAng="10800000" swAng="-5400000"/>
                <a:lnTo>
                  <a:pt x="18000" y="501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91160" y="1015920"/>
            <a:ext cx="1265040" cy="2373480"/>
          </a:xfrm>
          <a:custGeom>
            <a:avLst/>
            <a:gdLst>
              <a:gd name="textAreaLeft" fmla="*/ 61560 w 1265040"/>
              <a:gd name="textAreaRight" fmla="*/ 1203480 w 1265040"/>
              <a:gd name="textAreaTop" fmla="*/ 61560 h 2373480"/>
              <a:gd name="textAreaBottom" fmla="*/ 2311920 h 2373480"/>
            </a:gdLst>
            <a:ahLst/>
            <a:rect l="textAreaLeft" t="textAreaTop" r="textAreaRight" b="textAreaBottom"/>
            <a:pathLst>
              <a:path w="21600" h="40521">
                <a:moveTo>
                  <a:pt x="3600" y="0"/>
                </a:moveTo>
                <a:arcTo wR="3600" hR="3600" stAng="16200000" swAng="-5400000"/>
                <a:lnTo>
                  <a:pt x="0" y="36921"/>
                </a:lnTo>
                <a:arcTo wR="3600" hR="3600" stAng="10800000" swAng="-5400000"/>
                <a:lnTo>
                  <a:pt x="18000" y="40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56240" y="4635360"/>
            <a:ext cx="1490400" cy="2222640"/>
          </a:xfrm>
          <a:custGeom>
            <a:avLst/>
            <a:gdLst>
              <a:gd name="textAreaLeft" fmla="*/ 72720 w 1490400"/>
              <a:gd name="textAreaRight" fmla="*/ 1417680 w 1490400"/>
              <a:gd name="textAreaTop" fmla="*/ 72720 h 2222640"/>
              <a:gd name="textAreaBottom" fmla="*/ 2149920 h 2222640"/>
            </a:gdLst>
            <a:ahLst/>
            <a:rect l="textAreaLeft" t="textAreaTop" r="textAreaRight" b="textAreaBottom"/>
            <a:pathLst>
              <a:path w="21600" h="32210">
                <a:moveTo>
                  <a:pt x="3600" y="0"/>
                </a:moveTo>
                <a:arcTo wR="3600" hR="3600" stAng="16200000" swAng="-5400000"/>
                <a:lnTo>
                  <a:pt x="0" y="28610"/>
                </a:lnTo>
                <a:arcTo wR="3600" hR="3600" stAng="10800000" swAng="-5400000"/>
                <a:lnTo>
                  <a:pt x="18000" y="32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968400"/>
            <a:ext cx="1492560" cy="2143080"/>
          </a:xfrm>
          <a:custGeom>
            <a:avLst/>
            <a:gdLst>
              <a:gd name="textAreaLeft" fmla="*/ 72720 w 1492560"/>
              <a:gd name="textAreaRight" fmla="*/ 1419840 w 1492560"/>
              <a:gd name="textAreaTop" fmla="*/ 72720 h 2143080"/>
              <a:gd name="textAreaBottom" fmla="*/ 2070360 h 2143080"/>
            </a:gdLst>
            <a:ahLst/>
            <a:rect l="textAreaLeft" t="textAreaTop" r="textAreaRight" b="textAreaBottom"/>
            <a:pathLst>
              <a:path w="21600" h="31012">
                <a:moveTo>
                  <a:pt x="3600" y="0"/>
                </a:moveTo>
                <a:arcTo wR="3600" hR="3600" stAng="16200000" swAng="-5400000"/>
                <a:lnTo>
                  <a:pt x="0" y="27412"/>
                </a:lnTo>
                <a:arcTo wR="3600" hR="3600" stAng="10800000" swAng="-5400000"/>
                <a:lnTo>
                  <a:pt x="18000" y="31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680" y="762120"/>
            <a:ext cx="27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DEMAND FOR SPEEDIER SERVICE HAS STRESSED OUR CAPABILITY TO DE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25560" y="17640"/>
            <a:ext cx="3251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Black"/>
              </a:rPr>
              <a:t>WHAT ARE OUR KEY PROBLEMS SERVING THE CHANGING NEEDS OF BUSINESS CUSTOMERS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51460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YS DURING RESERVATIONS INQUIRIES RESULTS IN ABOUT 9% DROPPED CA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04760"/>
            <a:ext cx="283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SERVICE STAFF RESOURCES ARE STRETCHED THINNER THAN E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34280" y="0"/>
            <a:ext cx="251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GLITCHES IN OUR ADMIN PROCESSES HAVE TROUBLED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74000">
            <a:off x="5291280" y="775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61440" y="6540480"/>
            <a:ext cx="127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2960" y="3720960"/>
            <a:ext cx="283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WE HAVEN’T TOOLED FOR OUR CUSTOMERS’ INFORMATION AGE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419640"/>
            <a:ext cx="114300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ST PURCHASING MANAGERS COMPLAIN ABOUT WAITING FOR QUOTES TO BE MAILED FROM HEAD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676520"/>
            <a:ext cx="1143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IN THE RESTAURANT – BUSINESS PEOPLE WANT IT ‘NOW’ OR THEY ARE G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666880"/>
            <a:ext cx="114300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% OF RESTAURANT SUGGESTION CARDS IDENTIFY “SERVICE TIMELINESS” AS FAIR OR P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733920"/>
            <a:ext cx="11430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OUPS OFTEN LEAVE THE LUNCH QUEUE WHEN WAITS EXCEED 1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4572000"/>
            <a:ext cx="1143000" cy="11890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CUSTOMER WHO  ‘COULDN’T FIND THEIR WAITER FOR 10 MINUTES’  DECIDED NOT TO BOOK A MAJOR CONFERENCE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24240" y="838080"/>
            <a:ext cx="114300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THE STAFF EXPERIENCE LEVEL IS DECLI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24240" y="1523880"/>
            <a:ext cx="11430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ONT DESK TURNOVER IS UP 1/3 OVER LAST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24240" y="213372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ST NEW HIRES ARE PUT ON DUTY BEFORE COMPLETING ALL STANDARD TRAI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4000" y="1619280"/>
            <a:ext cx="114300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EMPLOYEE SURVEY IDENTIFIED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BURNOU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AS THE FACTOR MOST INCREASED OVER LAST YE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34000" y="762120"/>
            <a:ext cx="114300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EMPLOYEES MAY BE BUCKLING UNDER INCREASED PRESSURE TO PERFO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34000" y="2610000"/>
            <a:ext cx="11430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REE WAITERS QUIT THE SAME DAY – CITING ‘UNFAIR WORK CONDITIONS’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0440" y="878040"/>
            <a:ext cx="127476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VARIABILITY IN THE RESERVATION SYSTEM HAS CONFUSED CL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1240" y="900000"/>
            <a:ext cx="114300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ORPORATE FINANCIAL SERVICES HAS RAISED COMPLAI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5520" y="1738440"/>
            <a:ext cx="130968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RONT DESK QUOTED A ROOM AT $109 WHILE OUR 800 NUMBER OFFERED IT AT $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75520" y="2490840"/>
            <a:ext cx="1292040" cy="94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DATABASE DENIED AVAILABILIY OF A BLOCK OF 40 ROOMS WHILE PHONE FOLLOW UP REVEALED THEY WERE AVAIL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94600" y="3510000"/>
            <a:ext cx="127476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LOST A LARGE ACCOUNT DUE TO ACCIDENTAL DOUBLE BOOK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53320" y="1736640"/>
            <a:ext cx="127656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LARGE CONFERENCE CUSTOMER COMPLAINED ABOUT RECEIVING TWO VERY DIFFERENT INVOICES FOR THE SAME EV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61240" y="2843280"/>
            <a:ext cx="12477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IRS HAS REQUIRED AMMENDMENTS TO OUR PAYROLL DATA FOR THE PAST 2 QUAR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61240" y="3700440"/>
            <a:ext cx="12574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OUNTS RECEIVABLES COLLECTION PRACTICES RESULTED IN OUR LOSING A CORPORATE 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65560" y="4464000"/>
            <a:ext cx="129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THE BUSINESS CENTER TURNS AWAY INCREASING SOFTWARE SERVICE REQUR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53080" y="4495680"/>
            <a:ext cx="129528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WE TRAIL THE COMPETITION IN REQUESTED NETWORKING CAP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760" y="5454720"/>
            <a:ext cx="13716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SKTOP PUBLISHING SUPPORT IS REQUESTED BY 25% OF CONFERENCE COORDINA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36760" y="6216480"/>
            <a:ext cx="1371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 DENY MANY REQUESTS FROM BUSINESS GUESTS FOR COLOR PRIN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4920" y="5334120"/>
            <a:ext cx="1371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FERENCE CLIENTS EXPECT NETWORKING BETWEEN THE MEETING ROO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5999040"/>
            <a:ext cx="1371600" cy="7023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R 2 CLOSEST COMPETITORS OFFER NETWORKED ACCESS TO SHARED PRINTERS – WE DON’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3360" y="4613400"/>
            <a:ext cx="1371600" cy="765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UESTS  WITHOUT COMPUTERS ASK FOR DIRECT INTERNET ACCESS AND EMAIL –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1925640"/>
            <a:ext cx="1347840" cy="2685960"/>
          </a:xfrm>
          <a:custGeom>
            <a:avLst/>
            <a:gdLst>
              <a:gd name="textAreaLeft" fmla="*/ 65520 w 1347840"/>
              <a:gd name="textAreaRight" fmla="*/ 1282320 w 1347840"/>
              <a:gd name="textAreaTop" fmla="*/ 65520 h 2685960"/>
              <a:gd name="textAreaBottom" fmla="*/ 2620440 h 2685960"/>
            </a:gdLst>
            <a:ahLst/>
            <a:rect l="textAreaLeft" t="textAreaTop" r="textAreaRight" b="textAreaBottom"/>
            <a:pathLst>
              <a:path w="21600" h="43039">
                <a:moveTo>
                  <a:pt x="3600" y="0"/>
                </a:moveTo>
                <a:arcTo wR="3600" hR="3600" stAng="16200000" swAng="-5400000"/>
                <a:lnTo>
                  <a:pt x="0" y="39439"/>
                </a:lnTo>
                <a:arcTo wR="3600" hR="3600" stAng="10800000" swAng="-5400000"/>
                <a:lnTo>
                  <a:pt x="18000" y="43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676520"/>
            <a:ext cx="1143000" cy="77976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CUSTOMERS EXPECT FASTER ACCESS TO INFORMATION IN OU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2160" y="706320"/>
            <a:ext cx="2997360" cy="2803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75560" y="5681520"/>
            <a:ext cx="1468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ff Q2 Review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y Conf.  Ct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5/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88480" y="6465960"/>
            <a:ext cx="222120" cy="136440"/>
          </a:xfrm>
          <a:custGeom>
            <a:avLst/>
            <a:gdLst/>
            <a:ahLst/>
            <a:rect l="l" t="t" r="r" b="b"/>
            <a:pathLst>
              <a:path w="140" h="86">
                <a:moveTo>
                  <a:pt x="10" y="7"/>
                </a:moveTo>
                <a:cubicBezTo>
                  <a:pt x="9" y="16"/>
                  <a:pt x="9" y="25"/>
                  <a:pt x="8" y="34"/>
                </a:cubicBezTo>
                <a:cubicBezTo>
                  <a:pt x="7" y="38"/>
                  <a:pt x="5" y="50"/>
                  <a:pt x="5" y="46"/>
                </a:cubicBezTo>
                <a:cubicBezTo>
                  <a:pt x="5" y="31"/>
                  <a:pt x="7" y="15"/>
                  <a:pt x="8" y="0"/>
                </a:cubicBezTo>
                <a:cubicBezTo>
                  <a:pt x="14" y="14"/>
                  <a:pt x="17" y="13"/>
                  <a:pt x="13" y="24"/>
                </a:cubicBezTo>
                <a:cubicBezTo>
                  <a:pt x="12" y="27"/>
                  <a:pt x="10" y="31"/>
                  <a:pt x="8" y="34"/>
                </a:cubicBezTo>
                <a:cubicBezTo>
                  <a:pt x="6" y="37"/>
                  <a:pt x="0" y="44"/>
                  <a:pt x="1" y="41"/>
                </a:cubicBezTo>
                <a:cubicBezTo>
                  <a:pt x="6" y="23"/>
                  <a:pt x="10" y="26"/>
                  <a:pt x="25" y="24"/>
                </a:cubicBezTo>
                <a:cubicBezTo>
                  <a:pt x="23" y="42"/>
                  <a:pt x="17" y="60"/>
                  <a:pt x="17" y="79"/>
                </a:cubicBezTo>
                <a:cubicBezTo>
                  <a:pt x="17" y="86"/>
                  <a:pt x="20" y="65"/>
                  <a:pt x="22" y="58"/>
                </a:cubicBezTo>
                <a:cubicBezTo>
                  <a:pt x="29" y="25"/>
                  <a:pt x="24" y="44"/>
                  <a:pt x="32" y="19"/>
                </a:cubicBezTo>
                <a:cubicBezTo>
                  <a:pt x="34" y="21"/>
                  <a:pt x="34" y="26"/>
                  <a:pt x="37" y="26"/>
                </a:cubicBezTo>
                <a:cubicBezTo>
                  <a:pt x="40" y="26"/>
                  <a:pt x="41" y="16"/>
                  <a:pt x="41" y="19"/>
                </a:cubicBezTo>
                <a:cubicBezTo>
                  <a:pt x="42" y="28"/>
                  <a:pt x="39" y="37"/>
                  <a:pt x="39" y="46"/>
                </a:cubicBezTo>
                <a:cubicBezTo>
                  <a:pt x="39" y="51"/>
                  <a:pt x="40" y="36"/>
                  <a:pt x="41" y="31"/>
                </a:cubicBezTo>
                <a:cubicBezTo>
                  <a:pt x="45" y="14"/>
                  <a:pt x="44" y="17"/>
                  <a:pt x="51" y="7"/>
                </a:cubicBezTo>
                <a:cubicBezTo>
                  <a:pt x="51" y="8"/>
                  <a:pt x="55" y="40"/>
                  <a:pt x="56" y="41"/>
                </a:cubicBezTo>
                <a:cubicBezTo>
                  <a:pt x="61" y="43"/>
                  <a:pt x="57" y="31"/>
                  <a:pt x="58" y="26"/>
                </a:cubicBezTo>
                <a:cubicBezTo>
                  <a:pt x="59" y="20"/>
                  <a:pt x="61" y="13"/>
                  <a:pt x="63" y="7"/>
                </a:cubicBezTo>
                <a:cubicBezTo>
                  <a:pt x="77" y="38"/>
                  <a:pt x="110" y="36"/>
                  <a:pt x="140" y="38"/>
                </a:cubicBezTo>
                <a:cubicBezTo>
                  <a:pt x="136" y="28"/>
                  <a:pt x="137" y="23"/>
                  <a:pt x="128" y="17"/>
                </a:cubicBezTo>
                <a:cubicBezTo>
                  <a:pt x="89" y="33"/>
                  <a:pt x="107" y="24"/>
                  <a:pt x="123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94560" y="6442200"/>
            <a:ext cx="284400" cy="87120"/>
          </a:xfrm>
          <a:custGeom>
            <a:avLst/>
            <a:gdLst/>
            <a:ahLst/>
            <a:rect l="l" t="t" r="r" b="b"/>
            <a:pathLst>
              <a:path w="179" h="55">
                <a:moveTo>
                  <a:pt x="1" y="34"/>
                </a:moveTo>
                <a:cubicBezTo>
                  <a:pt x="8" y="50"/>
                  <a:pt x="0" y="35"/>
                  <a:pt x="9" y="22"/>
                </a:cubicBezTo>
                <a:cubicBezTo>
                  <a:pt x="11" y="20"/>
                  <a:pt x="11" y="28"/>
                  <a:pt x="13" y="29"/>
                </a:cubicBezTo>
                <a:cubicBezTo>
                  <a:pt x="16" y="31"/>
                  <a:pt x="21" y="31"/>
                  <a:pt x="25" y="32"/>
                </a:cubicBezTo>
                <a:cubicBezTo>
                  <a:pt x="8" y="44"/>
                  <a:pt x="35" y="43"/>
                  <a:pt x="42" y="34"/>
                </a:cubicBezTo>
                <a:cubicBezTo>
                  <a:pt x="47" y="36"/>
                  <a:pt x="52" y="40"/>
                  <a:pt x="57" y="41"/>
                </a:cubicBezTo>
                <a:cubicBezTo>
                  <a:pt x="62" y="42"/>
                  <a:pt x="81" y="36"/>
                  <a:pt x="64" y="41"/>
                </a:cubicBezTo>
                <a:cubicBezTo>
                  <a:pt x="67" y="29"/>
                  <a:pt x="66" y="40"/>
                  <a:pt x="85" y="44"/>
                </a:cubicBezTo>
                <a:cubicBezTo>
                  <a:pt x="102" y="40"/>
                  <a:pt x="111" y="28"/>
                  <a:pt x="119" y="44"/>
                </a:cubicBezTo>
                <a:cubicBezTo>
                  <a:pt x="126" y="42"/>
                  <a:pt x="134" y="41"/>
                  <a:pt x="141" y="39"/>
                </a:cubicBezTo>
                <a:cubicBezTo>
                  <a:pt x="146" y="38"/>
                  <a:pt x="150" y="35"/>
                  <a:pt x="155" y="34"/>
                </a:cubicBezTo>
                <a:cubicBezTo>
                  <a:pt x="157" y="33"/>
                  <a:pt x="150" y="36"/>
                  <a:pt x="148" y="37"/>
                </a:cubicBezTo>
                <a:cubicBezTo>
                  <a:pt x="150" y="34"/>
                  <a:pt x="153" y="32"/>
                  <a:pt x="153" y="29"/>
                </a:cubicBezTo>
                <a:cubicBezTo>
                  <a:pt x="153" y="26"/>
                  <a:pt x="150" y="23"/>
                  <a:pt x="150" y="20"/>
                </a:cubicBezTo>
                <a:cubicBezTo>
                  <a:pt x="150" y="15"/>
                  <a:pt x="153" y="0"/>
                  <a:pt x="153" y="5"/>
                </a:cubicBezTo>
                <a:cubicBezTo>
                  <a:pt x="153" y="12"/>
                  <a:pt x="151" y="20"/>
                  <a:pt x="150" y="27"/>
                </a:cubicBezTo>
                <a:cubicBezTo>
                  <a:pt x="139" y="25"/>
                  <a:pt x="128" y="18"/>
                  <a:pt x="117" y="22"/>
                </a:cubicBezTo>
                <a:cubicBezTo>
                  <a:pt x="114" y="23"/>
                  <a:pt x="121" y="28"/>
                  <a:pt x="124" y="29"/>
                </a:cubicBezTo>
                <a:cubicBezTo>
                  <a:pt x="135" y="32"/>
                  <a:pt x="146" y="32"/>
                  <a:pt x="157" y="34"/>
                </a:cubicBezTo>
                <a:cubicBezTo>
                  <a:pt x="160" y="36"/>
                  <a:pt x="164" y="36"/>
                  <a:pt x="165" y="39"/>
                </a:cubicBezTo>
                <a:cubicBezTo>
                  <a:pt x="167" y="43"/>
                  <a:pt x="164" y="50"/>
                  <a:pt x="167" y="53"/>
                </a:cubicBezTo>
                <a:cubicBezTo>
                  <a:pt x="169" y="55"/>
                  <a:pt x="170" y="48"/>
                  <a:pt x="172" y="46"/>
                </a:cubicBezTo>
                <a:cubicBezTo>
                  <a:pt x="174" y="44"/>
                  <a:pt x="179" y="41"/>
                  <a:pt x="179" y="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491000">
            <a:off x="8823240" y="6567120"/>
            <a:ext cx="171360" cy="84240"/>
          </a:xfrm>
          <a:custGeom>
            <a:avLst/>
            <a:gdLst/>
            <a:ahLst/>
            <a:rect l="l" t="t" r="r" b="b"/>
            <a:pathLst>
              <a:path w="77" h="51">
                <a:moveTo>
                  <a:pt x="0" y="0"/>
                </a:moveTo>
                <a:cubicBezTo>
                  <a:pt x="1" y="6"/>
                  <a:pt x="1" y="31"/>
                  <a:pt x="8" y="15"/>
                </a:cubicBezTo>
                <a:cubicBezTo>
                  <a:pt x="12" y="41"/>
                  <a:pt x="13" y="19"/>
                  <a:pt x="20" y="5"/>
                </a:cubicBezTo>
                <a:cubicBezTo>
                  <a:pt x="21" y="11"/>
                  <a:pt x="21" y="16"/>
                  <a:pt x="22" y="22"/>
                </a:cubicBezTo>
                <a:cubicBezTo>
                  <a:pt x="25" y="51"/>
                  <a:pt x="22" y="51"/>
                  <a:pt x="29" y="17"/>
                </a:cubicBezTo>
                <a:cubicBezTo>
                  <a:pt x="30" y="12"/>
                  <a:pt x="25" y="27"/>
                  <a:pt x="27" y="31"/>
                </a:cubicBezTo>
                <a:cubicBezTo>
                  <a:pt x="28" y="33"/>
                  <a:pt x="32" y="30"/>
                  <a:pt x="34" y="29"/>
                </a:cubicBezTo>
                <a:cubicBezTo>
                  <a:pt x="40" y="8"/>
                  <a:pt x="29" y="37"/>
                  <a:pt x="68" y="19"/>
                </a:cubicBezTo>
                <a:cubicBezTo>
                  <a:pt x="72" y="17"/>
                  <a:pt x="72" y="5"/>
                  <a:pt x="72" y="5"/>
                </a:cubicBezTo>
                <a:cubicBezTo>
                  <a:pt x="73" y="12"/>
                  <a:pt x="71" y="21"/>
                  <a:pt x="75" y="27"/>
                </a:cubicBezTo>
                <a:cubicBezTo>
                  <a:pt x="77" y="30"/>
                  <a:pt x="77" y="3"/>
                  <a:pt x="77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3800" y="6621480"/>
            <a:ext cx="7920" cy="117360"/>
          </a:xfrm>
          <a:custGeom>
            <a:avLst/>
            <a:gdLst/>
            <a:ahLst/>
            <a:rect l="l" t="t" r="r" b="b"/>
            <a:pathLst>
              <a:path w="5" h="74">
                <a:moveTo>
                  <a:pt x="0" y="0"/>
                </a:moveTo>
                <a:cubicBezTo>
                  <a:pt x="4" y="14"/>
                  <a:pt x="5" y="74"/>
                  <a:pt x="5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73960" y="6599160"/>
            <a:ext cx="411120" cy="133560"/>
          </a:xfrm>
          <a:custGeom>
            <a:avLst/>
            <a:gdLst/>
            <a:ahLst/>
            <a:rect l="l" t="t" r="r" b="b"/>
            <a:pathLst>
              <a:path w="264" h="130">
                <a:moveTo>
                  <a:pt x="0" y="80"/>
                </a:moveTo>
                <a:cubicBezTo>
                  <a:pt x="28" y="94"/>
                  <a:pt x="64" y="83"/>
                  <a:pt x="94" y="80"/>
                </a:cubicBezTo>
                <a:cubicBezTo>
                  <a:pt x="68" y="69"/>
                  <a:pt x="64" y="76"/>
                  <a:pt x="24" y="80"/>
                </a:cubicBezTo>
                <a:cubicBezTo>
                  <a:pt x="32" y="63"/>
                  <a:pt x="75" y="71"/>
                  <a:pt x="92" y="70"/>
                </a:cubicBezTo>
                <a:cubicBezTo>
                  <a:pt x="102" y="71"/>
                  <a:pt x="113" y="68"/>
                  <a:pt x="123" y="72"/>
                </a:cubicBezTo>
                <a:cubicBezTo>
                  <a:pt x="126" y="73"/>
                  <a:pt x="119" y="83"/>
                  <a:pt x="118" y="80"/>
                </a:cubicBezTo>
                <a:cubicBezTo>
                  <a:pt x="116" y="73"/>
                  <a:pt x="123" y="47"/>
                  <a:pt x="118" y="68"/>
                </a:cubicBezTo>
                <a:cubicBezTo>
                  <a:pt x="140" y="80"/>
                  <a:pt x="111" y="90"/>
                  <a:pt x="149" y="77"/>
                </a:cubicBezTo>
                <a:cubicBezTo>
                  <a:pt x="150" y="66"/>
                  <a:pt x="164" y="0"/>
                  <a:pt x="147" y="24"/>
                </a:cubicBezTo>
                <a:cubicBezTo>
                  <a:pt x="139" y="65"/>
                  <a:pt x="144" y="55"/>
                  <a:pt x="185" y="58"/>
                </a:cubicBezTo>
                <a:cubicBezTo>
                  <a:pt x="170" y="69"/>
                  <a:pt x="132" y="75"/>
                  <a:pt x="132" y="75"/>
                </a:cubicBezTo>
                <a:cubicBezTo>
                  <a:pt x="152" y="77"/>
                  <a:pt x="170" y="80"/>
                  <a:pt x="190" y="82"/>
                </a:cubicBezTo>
                <a:cubicBezTo>
                  <a:pt x="195" y="114"/>
                  <a:pt x="238" y="121"/>
                  <a:pt x="264" y="130"/>
                </a:cubicBezTo>
                <a:cubicBezTo>
                  <a:pt x="252" y="109"/>
                  <a:pt x="238" y="92"/>
                  <a:pt x="212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20823000">
            <a:off x="2611440" y="1088640"/>
            <a:ext cx="692280" cy="676440"/>
          </a:xfrm>
          <a:prstGeom prst="rightArrow">
            <a:avLst>
              <a:gd name="adj1" fmla="val 50000"/>
              <a:gd name="adj2" fmla="val 255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461000">
            <a:off x="5814360" y="528120"/>
            <a:ext cx="522360" cy="525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84720"/>
            <a:ext cx="185760" cy="177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57960"/>
            <a:ext cx="185760" cy="177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620040"/>
            <a:ext cx="185760" cy="17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3440" y="60199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440" y="6102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62737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3440" y="6583320"/>
            <a:ext cx="53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720" y="6094440"/>
            <a:ext cx="1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120" y="609444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68440" y="678492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5000" y="60562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ote g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651720"/>
            <a:ext cx="182520" cy="177840"/>
          </a:xfrm>
          <a:prstGeom prst="rightArrow">
            <a:avLst>
              <a:gd name="adj1" fmla="val 50000"/>
              <a:gd name="adj2" fmla="val 256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17600" y="6597720"/>
            <a:ext cx="90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9760" y="66135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5400" y="6369120"/>
            <a:ext cx="159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rows indic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6280200"/>
            <a:ext cx="363600" cy="163440"/>
          </a:xfrm>
          <a:custGeom>
            <a:avLst/>
            <a:gdLst/>
            <a:ahLst/>
            <a:rect l="l" t="t" r="r" b="b"/>
            <a:pathLst>
              <a:path w="229" h="103">
                <a:moveTo>
                  <a:pt x="0" y="88"/>
                </a:moveTo>
                <a:cubicBezTo>
                  <a:pt x="31" y="95"/>
                  <a:pt x="62" y="103"/>
                  <a:pt x="100" y="88"/>
                </a:cubicBezTo>
                <a:cubicBezTo>
                  <a:pt x="138" y="73"/>
                  <a:pt x="209" y="15"/>
                  <a:pt x="22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6268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81360" y="5962680"/>
            <a:ext cx="0" cy="8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33440" y="5924520"/>
            <a:ext cx="5972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4:38:38Z</dcterms:created>
  <dc:creator>Dave Hallowell</dc:creator>
  <dc:description/>
  <dc:language>en-US</dc:language>
  <cp:lastModifiedBy> Dave Hallowell</cp:lastModifiedBy>
  <dcterms:modified xsi:type="dcterms:W3CDTF">2007-02-14T14:36:13Z</dcterms:modified>
  <cp:revision>6</cp:revision>
  <dc:subject/>
  <dc:title>PowerPoint Presentation</dc:title>
</cp:coreProperties>
</file>